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311-773C-4E99-9FA0-7174C561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918-C2FC-4D0F-9699-A714E45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879-6A05-42A3-BF50-5F367B0D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BB1-0D26-47A7-AA07-62EB0767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EB58-0933-4D8E-8AD4-DA98821D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DC37-ED2A-493B-930B-559A18F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EA11-D091-4BA2-8D0B-AB222332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B652-80FF-4DA0-A019-C48F8C2F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6487-3C54-4070-A1FF-A66DAD77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E404-12B6-4474-A0D0-823EC59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C901-B57D-4AAC-8E87-BB9E2134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B73-D198-4B83-A34B-132DA4D8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A276-BBB5-4B0C-85A0-04C0A7D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B0FA-F0BD-46F1-A37A-F2E80D22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5199-9D27-4722-9F67-9E933A1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6AC9-FEBA-42EB-AF50-CA992493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A550-C03E-4125-8B1F-142D0C66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F870-1C95-4329-B143-BA7A3EDA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4F29-47B5-406A-82C5-4AAE062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E827-8627-4573-96F5-D10F267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F555-727C-4FA7-B5E8-EC6ED59E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F11A-45E3-40F1-BB1E-6B772158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CD4-B874-4A1F-8228-FCC72F1D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43FC-8C23-4192-B132-D1F5BB3D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5B2D-50A0-41AE-98A4-95673025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DE12-E990-4812-B3DE-781B7A0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0979-9620-45F8-9941-FB6B376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06C5-2B8D-482D-9907-2628488C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0E0D-F5DF-4D1E-AC6C-AF8B2F04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24D2-0CE8-4CE1-9871-555EEE42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E39F-870D-4E39-B6B1-B4D02D94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F282-AE25-4B82-B25F-2CBDE502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D2BE-A42D-4B17-80C8-DA8BAAAA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C07-7995-457D-BC1A-F1D5B038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83B7-D628-4F07-934E-03CB58C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6F1B-C156-46A1-A86D-0D65A6B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AEE9-A42C-48FC-87A5-846B7A2E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DCBF-708C-4497-B6CC-435EE53E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D448-901F-4A67-A536-26389F4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2B44-98CD-4FD7-B6E7-D110007C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6BB1-1BF0-4ABE-9FCE-A17C8A9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19D4-7C91-4D32-89D8-C93856C0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CC02-C09E-4FD8-AE9E-23AC71FB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3B9B9-4A21-4EA5-9CFC-FA3252DC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C2D-FAC3-4E5F-974E-B027D517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2B0C-E8C9-425D-93E0-1B7708F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63D54-8E5F-4167-A981-3DF4685B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9747D-440D-4745-8F4F-C879BDB8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D766-B004-4423-9C3D-287EA005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859BC-222D-49D8-8C4D-94711226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5F22-2B38-41F6-9866-BA01138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B846-685E-4ACC-8A92-499D0E8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3EA18-9EB6-4C41-9F06-AC66DDC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B248-E84F-4BA6-B551-00D05EC3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00D43-46E7-48A6-813C-178AD0B2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200-4C82-4A0A-A930-4AE76585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10DB-1809-4054-826A-72F89FC7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F48-CD82-477E-AC60-BBDC63F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CDF-71EA-454C-A77E-E8E443B5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58C-06B9-46E9-BCD5-6426CC9D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D62E-21E6-46AE-97F8-2652509048AA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4224-4480-4CC9-A6ED-7CBC3A2AC4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80D-AC8B-4DC5-92DC-B2A17E97D61B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8259-90A2-44D4-BD20-BB3DA40086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565-5EAB-4556-AF3C-8C8B69AF4204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3271-39B6-4D1C-A567-2C99D2DE29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7C81-2DE2-42F9-9A3D-4285E143779F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3CE-92B3-4560-8FDC-1321828959C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ACFE-7750-4F68-980D-6B93E01ACAA7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6BC-9E54-4E10-90C6-79E0C62F1D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. 44 Warm-U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raw and label the parts of a nephr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at are the 4 main functions of a nephron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ere does each function in #2 above occur in a nephron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n the glomerulus, which substances are filtered? Which substances remain in the blood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0c0"/>
                </a:solidFill>
                <a:uFillTx/>
                <a:latin typeface="Franklin Gothic Book"/>
              </a:rPr>
              <a:t>Nephrons</a:t>
            </a: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: functional units of the kidne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7" name="Content Placeholder 3" descr="44_14_bMamExcretorySys-L.jpg"/>
          <p:cNvPicPr/>
          <p:nvPr/>
        </p:nvPicPr>
        <p:blipFill>
          <a:blip r:embed="rId1"/>
          <a:stretch/>
        </p:blipFill>
        <p:spPr>
          <a:xfrm>
            <a:off x="609480" y="1219320"/>
            <a:ext cx="6924960" cy="5333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4800600" y="129528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lomerul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filtrate forced into Bowman’s caps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d cells and proteins DO NOT enter filt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own Arrow 5"/>
          <p:cNvSpPr/>
          <p:nvPr/>
        </p:nvSpPr>
        <p:spPr>
          <a:xfrm flipH="1" rot="4140000">
            <a:off x="3593880" y="925560"/>
            <a:ext cx="279360" cy="2506680"/>
          </a:xfrm>
          <a:prstGeom prst="down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20340000"/>
          </a:gra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ing of blood filtrat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Proximal tubu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secretion &amp; reabsorption change volume and composition of filtr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063800" indent="-51444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icarbonate, NaCl, water is absorb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Descending loop of Hen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eabsorb wa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Ascending loop of Hen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eabsorb sal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Distal tubul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NaCl levels regulat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Collecting duc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filtrate becomes more concentrated; minimize water 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457200" y="2286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lood filtrate to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4" descr="44_15NephronCollectDuct-L.jpg"/>
          <p:cNvPicPr/>
          <p:nvPr/>
        </p:nvPicPr>
        <p:blipFill>
          <a:blip r:embed="rId1"/>
          <a:stretch/>
        </p:blipFill>
        <p:spPr>
          <a:xfrm>
            <a:off x="914400" y="853920"/>
            <a:ext cx="7324560" cy="58518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22860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3808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571500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7162920" y="5557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own Arrow 9"/>
          <p:cNvSpPr/>
          <p:nvPr/>
        </p:nvSpPr>
        <p:spPr>
          <a:xfrm rot="16994400">
            <a:off x="2401560" y="1508040"/>
            <a:ext cx="330480" cy="657000"/>
          </a:xfrm>
          <a:prstGeom prst="downArrow">
            <a:avLst>
              <a:gd name="adj1" fmla="val 50000"/>
              <a:gd name="adj2" fmla="val 4994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own Arrow 10"/>
          <p:cNvSpPr/>
          <p:nvPr/>
        </p:nvSpPr>
        <p:spPr>
          <a:xfrm rot="16994400">
            <a:off x="3709800" y="2842560"/>
            <a:ext cx="366840" cy="1649520"/>
          </a:xfrm>
          <a:prstGeom prst="downArrow">
            <a:avLst>
              <a:gd name="adj1" fmla="val 50000"/>
              <a:gd name="adj2" fmla="val 5210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own Arrow 11"/>
          <p:cNvSpPr/>
          <p:nvPr/>
        </p:nvSpPr>
        <p:spPr>
          <a:xfrm rot="2675400">
            <a:off x="4919400" y="358920"/>
            <a:ext cx="366480" cy="1576080"/>
          </a:xfrm>
          <a:prstGeom prst="downArrow">
            <a:avLst>
              <a:gd name="adj1" fmla="val 50000"/>
              <a:gd name="adj2" fmla="val 5214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own Arrow 12"/>
          <p:cNvSpPr/>
          <p:nvPr/>
        </p:nvSpPr>
        <p:spPr>
          <a:xfrm rot="5400000">
            <a:off x="6838200" y="5582520"/>
            <a:ext cx="396720" cy="357120"/>
          </a:xfrm>
          <a:prstGeom prst="downArrow">
            <a:avLst>
              <a:gd name="adj1" fmla="val 50000"/>
              <a:gd name="adj2" fmla="val 5212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own Arrow 13"/>
          <p:cNvSpPr/>
          <p:nvPr/>
        </p:nvSpPr>
        <p:spPr>
          <a:xfrm rot="12796800">
            <a:off x="3444480" y="2023920"/>
            <a:ext cx="314280" cy="1609920"/>
          </a:xfrm>
          <a:prstGeom prst="downArrow">
            <a:avLst>
              <a:gd name="adj1" fmla="val 50000"/>
              <a:gd name="adj2" fmla="val 5212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own Arrow 14"/>
          <p:cNvSpPr/>
          <p:nvPr/>
        </p:nvSpPr>
        <p:spPr>
          <a:xfrm rot="14351400">
            <a:off x="4310640" y="1316520"/>
            <a:ext cx="314280" cy="2941560"/>
          </a:xfrm>
          <a:prstGeom prst="downArrow">
            <a:avLst>
              <a:gd name="adj1" fmla="val 50000"/>
              <a:gd name="adj2" fmla="val 5212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5960" y="12193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Perpetua"/>
              </a:rPr>
              <a:t>Antidiuretic Hormone (ADH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urine concentration, reduc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 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vasopress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Perpetua"/>
              </a:rPr>
              <a:t>Renin/angiotensin I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aise blood pressu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Perpetua"/>
              </a:rPr>
              <a:t>Aldosteron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reabsorption,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 retention, blood volume, pressu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Content Placeholder 5" descr="44_19ADHFluidReten_2-L.jpg"/>
          <p:cNvPicPr/>
          <p:nvPr/>
        </p:nvPicPr>
        <p:blipFill>
          <a:blip r:embed="rId1"/>
          <a:stretch/>
        </p:blipFill>
        <p:spPr>
          <a:xfrm>
            <a:off x="5181480" y="762120"/>
            <a:ext cx="3759480" cy="47656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rmon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44_22RAASRegulation_3-L.jpg"/>
          <p:cNvPicPr/>
          <p:nvPr/>
        </p:nvPicPr>
        <p:blipFill>
          <a:blip r:embed="rId1"/>
          <a:stretch/>
        </p:blipFill>
        <p:spPr>
          <a:xfrm>
            <a:off x="1682640" y="136440"/>
            <a:ext cx="5778720" cy="65851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7"/>
          <p:cNvSpPr/>
          <p:nvPr/>
        </p:nvSpPr>
        <p:spPr>
          <a:xfrm>
            <a:off x="152280" y="91440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lood Pressur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Content Placeholder 5" descr="44_14aMamExcretorySys-L.jpg"/>
          <p:cNvPicPr/>
          <p:nvPr/>
        </p:nvPicPr>
        <p:blipFill>
          <a:blip r:embed="rId1"/>
          <a:stretch/>
        </p:blipFill>
        <p:spPr>
          <a:xfrm>
            <a:off x="380880" y="533520"/>
            <a:ext cx="4538880" cy="5867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723920" y="3581280"/>
            <a:ext cx="40388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rine exits kidney through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ladder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: stores uri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Urethra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: urine exits bod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96464"/>
                </a:solidFill>
                <a:latin typeface="Franklin Gothic Book"/>
              </a:rPr>
              <a:t>Believe it or not…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r kidneys are only 4 in long and weigh about 5 oz (weight of ½ unfinished can of pop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ually we urinate 1.5-2.5 liters/da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44 gallons of blood is filtered by kidneys everyday-2 bathtubs fu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esh urine is cleaner than spit, cleaner than your hands after they have been washed and cleaner than the sandwich you will eat for lunc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andhi drank urine every day (Tantric Yoga practic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adiators brushed their teeth with 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lonial housewives cleaned their home with 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st football=pig bladd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3" name="Picture 3" descr="urine.jpg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urine comp.jpg"/>
          <p:cNvPicPr/>
          <p:nvPr/>
        </p:nvPicPr>
        <p:blipFill>
          <a:blip r:embed="rId2"/>
          <a:stretch/>
        </p:blipFill>
        <p:spPr>
          <a:xfrm>
            <a:off x="7162920" y="3962520"/>
            <a:ext cx="15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4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ntrolling the Internal Environ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you must know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categories of nitrogenous waste, which animal groups produce each, and wh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mponents of a nephron, and what occurs in each reg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hormones affect water balance by acting on the nephr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Osmoregulat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control solute concentrations and balance water gain/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Excret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removal of nitrogenous wastes from bod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ypes of Nitrogenous Wast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Ammoni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water soluble, very toxic; aquatic anima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Ure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produced by liver; less toxic, conserves water; most vertebrat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Uric acid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– excreted as paste or crystals; birds &amp; repti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Nitrogenous Was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6" name="Content Placeholder 3" descr="44_08aNitrogenousWaste-L.jpg"/>
          <p:cNvPicPr/>
          <p:nvPr/>
        </p:nvPicPr>
        <p:blipFill>
          <a:blip r:embed="rId1"/>
          <a:stretch/>
        </p:blipFill>
        <p:spPr>
          <a:xfrm>
            <a:off x="1477800" y="1447920"/>
            <a:ext cx="664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arious forms of excretory syst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8" name="Content Placeholder 3" descr="44_11Protonephridia-L.jpg"/>
          <p:cNvPicPr/>
          <p:nvPr/>
        </p:nvPicPr>
        <p:blipFill>
          <a:blip r:embed="rId1"/>
          <a:stretch/>
        </p:blipFill>
        <p:spPr>
          <a:xfrm>
            <a:off x="457200" y="838080"/>
            <a:ext cx="4199040" cy="20462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228600" y="2895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onephridia  - Platyhelminthes (Plana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5228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lpighian tubules – Insects, arthro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5867280" y="3276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tanephridia - Anne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943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dneys - Verteb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44_12Metanephridia-L.jpg"/>
          <p:cNvPicPr/>
          <p:nvPr/>
        </p:nvPicPr>
        <p:blipFill>
          <a:blip r:embed="rId2"/>
          <a:stretch/>
        </p:blipFill>
        <p:spPr>
          <a:xfrm>
            <a:off x="5334120" y="762120"/>
            <a:ext cx="3504960" cy="245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44_13Malpighian-L.jpg"/>
          <p:cNvPicPr/>
          <p:nvPr/>
        </p:nvPicPr>
        <p:blipFill>
          <a:blip r:embed="rId3"/>
          <a:stretch/>
        </p:blipFill>
        <p:spPr>
          <a:xfrm>
            <a:off x="990720" y="3352680"/>
            <a:ext cx="3200400" cy="2957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44_14bMamExcretorySys-L.jpg"/>
          <p:cNvPicPr/>
          <p:nvPr/>
        </p:nvPicPr>
        <p:blipFill>
          <a:blip r:embed="rId4"/>
          <a:stretch/>
        </p:blipFill>
        <p:spPr>
          <a:xfrm>
            <a:off x="6324480" y="3809880"/>
            <a:ext cx="1731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east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Most Complex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56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onephridiu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closed tubes lacking an internal opening capped by a cellular unit called flame bulb. Urine passes out of small por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etanephridi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internal openings collect body fluids into a long tube surrounded by capillaries. Urine exits out por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alpighian tub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remove N waste from hemolymph, located near digestive tract.  Secretes dry waste with fec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Kidney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compact organs containing tubules surrounded by capillaries.  Functions in water and blood filtration, excretion of N waste and sal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3560" indent="-4935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ontent Placeholder 7" descr="44_10ExcretoryFuncOvervw-L.jpg"/>
          <p:cNvPicPr/>
          <p:nvPr/>
        </p:nvPicPr>
        <p:blipFill>
          <a:blip r:embed="rId1"/>
          <a:stretch/>
        </p:blipFill>
        <p:spPr>
          <a:xfrm>
            <a:off x="228600" y="609480"/>
            <a:ext cx="4440240" cy="60548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0"/>
          <p:cNvSpPr/>
          <p:nvPr/>
        </p:nvSpPr>
        <p:spPr>
          <a:xfrm>
            <a:off x="4267080" y="111744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ater and solutes enter filtrate; blood cells and proteins remain in body fl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4724280" y="31240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Reclaim glucose, vitamins,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2"/>
          <p:cNvSpPr/>
          <p:nvPr/>
        </p:nvSpPr>
        <p:spPr>
          <a:xfrm>
            <a:off x="4343400" y="4552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dd toxins and excess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4419720" y="5943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iltrate leaves body as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How to make urin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12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Mammalian Excretory Syst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5" name="Content Placeholder 3" descr="44_14_aMamExcretorySys-L.jpg"/>
          <p:cNvPicPr/>
          <p:nvPr/>
        </p:nvPicPr>
        <p:blipFill>
          <a:blip r:embed="rId1"/>
          <a:stretch/>
        </p:blipFill>
        <p:spPr>
          <a:xfrm>
            <a:off x="341280" y="2006640"/>
            <a:ext cx="86886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29:37Z</dcterms:created>
  <dc:creator>Jackie</dc:creator>
  <dc:description/>
  <dc:language>en-US</dc:language>
  <cp:lastModifiedBy>Chris Nancy Chou</cp:lastModifiedBy>
  <dcterms:modified xsi:type="dcterms:W3CDTF">2011-04-04T06:28:54Z</dcterms:modified>
  <cp:revision>38</cp:revision>
  <dc:subject/>
  <dc:title>Controlling the Internal Environment</dc:title>
</cp:coreProperties>
</file>